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F90F-DF2B-4D44-90EF-73450A53C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D00B-556A-44C6-8F50-3A436EE3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B46D-E9C7-4562-B2BB-4A964E034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01F9-BF31-401A-BD1E-4051252AC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E2A2-18DA-487C-9211-D90CB2B8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16B4-E30A-4E56-9BB4-317DEF3A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41B2-EBC0-481C-B4D7-4D0BEE6C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E8C5-F0F4-4491-9A75-15E7D2C72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A082-574B-435F-B7A8-1363C831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793B-3A6B-4ACB-AF59-08B4FC4F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BA77-34E8-4DA1-891D-F09BCBFE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92F0-368E-46AC-B5AE-FCE55D33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C3FC-381D-4AA3-B1CC-CCA8917D8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981080" y="-457200"/>
            <a:ext cx="11591640" cy="83725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90720" y="2895480"/>
            <a:ext cx="3200400" cy="1702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-457200" y="4191120"/>
            <a:ext cx="628560" cy="628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876920" y="-3049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609480" y="-4572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-1219320" y="-6858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692400" y="750420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: Abby and Is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3200400"/>
            <a:ext cx="267516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6:46:15Z</dcterms:created>
  <dc:creator>user</dc:creator>
  <dc:description/>
  <dc:language>en-US</dc:language>
  <cp:lastModifiedBy>user</cp:lastModifiedBy>
  <dcterms:modified xsi:type="dcterms:W3CDTF">2012-02-07T16:48:14Z</dcterms:modified>
  <cp:revision>1</cp:revision>
  <dc:subject/>
  <dc:title>Slide 1</dc:title>
</cp:coreProperties>
</file>